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99E105-8506-441F-B5D6-7D19755A8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383C3-265F-4733-A161-B88A7F9A7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44759-28E6-4D36-8EC8-5F8BDA6F8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2796B2-359F-4DDD-B010-7BB6D61E24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955BCD-20FB-45D6-AD50-6424970BD6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ADC5C-7E3B-436A-9CFA-69D0A1B7B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70398-DEE8-4876-B308-2C0183E9E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B14C5B-4066-4D1D-A17B-01FDAFC6E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DD072-DB0C-4147-9239-EEA67281C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16F17-5DD3-44F7-8AD2-E27B13882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8EBEB-7983-407C-BD2E-D61790301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7C419-EC54-4B32-A888-B1099CDE4A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CA2CA-EF8F-4B4A-B536-AE372D6610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 – 5. mai 2002</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et</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overtar nå og foretar en selvstendig vurdering av saken. Behandlingen skal ikke være en sandpåstrøing av turneringsleders avgjørelse. Bruk ikke formulering som vi ”omgjør TLs avgjørelse” eller ”vi støtter TL”.</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ntall medlemmer bør være 3.</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enighet mellom TL og appellutvalg</a:t>
            </a:r>
            <a:endParaRPr b="0" lang="en-US" sz="40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kan være overbevist om at TL har tolket lov/reglement feil. Gi TL anledning til å omgjøre sin beslutning. Nekter TL, er det TLs avgjørelse som blir stående, §93B3. Saken blir nå normalt anket til LU.</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enighet mellom TL og appellutvalg</a:t>
            </a:r>
            <a:endParaRPr b="0" lang="en-US" sz="4000" spc="-1" strike="noStrike">
              <a:solidFill>
                <a:srgbClr val="000066"/>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L kan være overbevist om at appellutvalget er på ville veier. Er det en vurderingssak, kan han henstille til utvalget om å endre avgjørelsen, men hvis ikke, er det appellutvalget sin avgjørelse som blir stående. TL kan nå selv sende saken til LU.</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untlig høring</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L redegjør først for fakta, hva han har dømt og hvorfor.</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er av partene får nå ordet, appellanten først. Appellutvalget stiller oppklarende spørsmål til partene.</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iskusjon mellom partene bør unngåes, men replikker er tillatt når begge parter har forklart se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untlig høring</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il slutt får partene anledning til oppsummering.</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L tar sin avgjørelse i enerom. TL er heller ikke tilstede nå.</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ppellutvalget kan hele tiden tilkalle TL for å rådføre seg om hva lov og reglement sier om forholdet.</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84D-E krever at TL og appellutvalg beskytter den ikke feilende side.</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er formelt forpliktet til å følge TLs fortolkning av lov og reglement. Er appellutvalget enig med TLs fortolkning og skjønn, bør den treffe samme avgjørelse. Husk likevel på § 12C3 som gir appellutvalg større myndighet til å gi justert score enn det TL har for å oppnå et mer rettferdig resultat, men merk at TL langt på vei har fått samme rettighet.</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kan selvfølgelig komme fram til andre kjensgjerninger og et annet skjønn enn TL. Dette gjelder særlig ved muntlige høringer. Uten muntlig høring, er det normalt, er det normalt TL som fastsetter sakens fakta.</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a stilling til om gebyret skal returneres.</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fastsettes</a:t>
            </a:r>
            <a:endParaRPr b="0" lang="en-US" sz="4400" spc="-1" strike="noStrike">
              <a:solidFill>
                <a:srgbClr val="000066"/>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må være klar over hver av partene tilstreber å gi til beste det som setter dem selv i best mulig lys, og at det er TL som er den nøytrale instans.</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ommen skal avsier skriftlig, enten ved appellutvalgets leder eller ved TL.</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Partene skal gjøres oppmerksom på at saken kan ankes videre til LU, men ikke anbefal appell.</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behandler ikke forbrytelser og skal ikke dømme forbrytere. Slike saker sendes til NBF for pådømming i disiplinærnemda.</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Utvalget skal gi en passende erstatning for påført skade og normale krav til bevisføring i en rettsak, gjelder ikke.</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bør oppnevnes et appellutvalg i alle offisielle turneringer</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I turneringer med MP skal det oppnevnes et appellutvalg</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LU er appellutvalg i SM, NM for klubber og i alle NM-finaler</a:t>
            </a:r>
            <a:endParaRPr b="0" lang="en-US" sz="3200" spc="-1" strike="noStrike">
              <a:solidFill>
                <a:srgbClr val="990000"/>
              </a:solidFill>
              <a:latin typeface="Times New Roman"/>
            </a:endParaRPr>
          </a:p>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t par eller et lags kaptein kan appellere enhver avgjørelse som TL har tatt ved bordet, se § 92.</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er viktig å få fram kjensgjerninger så godt som mulig. ”Jeg hørte spillefører forlange spar 3” er bedre enn ”han sa at han hadde hørt at spillefører hadde forlangt spar 3.”</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rgument som: ”Vi hadde en lignende sak i fjor og da fikk vi medhold.”, faller død til jorden.</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Prinsipper for appellutvalgets arbeid</a:t>
            </a:r>
            <a:endParaRPr b="0" lang="en-US" sz="4000" spc="-1" strike="noStrike">
              <a:solidFill>
                <a:srgbClr val="000066"/>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Vis sunn skepsis når spilleren forteller hva han tenkte på i gitte situasjoner. Tenkingen har ikke blitt dårligere av at spillet er slut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ets plikt</a:t>
            </a:r>
            <a:endParaRPr b="0" lang="en-US" sz="4400" spc="-1" strike="noStrike">
              <a:solidFill>
                <a:srgbClr val="000066"/>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Appellutvalget plikter å komme fram til en agjørelse, uansett hvor vanskelig eller ubehagelig saken er.</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Det er bra om avgjørelsen er enstemmig. Det krever at alle har respekt for andres argumenter, men det er ikke gunstig med skinnuenighet. Da er det bedre med en voterin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ppellutvalget behandler appellene, se </a:t>
            </a:r>
            <a:endParaRPr b="0" lang="en-US" sz="3600" spc="-1" strike="noStrike">
              <a:solidFill>
                <a:srgbClr val="99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a:t>
            </a:r>
            <a:r>
              <a:rPr b="0" lang="en-US" sz="3600" spc="-1" strike="noStrike">
                <a:solidFill>
                  <a:srgbClr val="990000"/>
                </a:solidFill>
                <a:latin typeface="Times New Roman"/>
              </a:rPr>
              <a:t>§ 93.</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Retten til å appellere utgår etter 30 min etter at resultatet er publisert, hvis ikke arrangørene har bestemt noe annet.</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lle appeller skal gjøres gjennom TL</a:t>
            </a:r>
            <a:endParaRPr b="0" lang="en-US" sz="3600" spc="-1" strike="noStrike">
              <a:solidFill>
                <a:srgbClr val="99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L er suveren på lover, reglement og disiplin, men et appellutvalg kan be TL om å omgjøre beslutninge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 avgjørelse på lover og reglement som ikke omgjøres, kan appelleres til LU.</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Appellutvalget skal gjøre vurderinger av bridgemessig karakt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ppellutvalg og turneringsleder</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Utvalget kan fastslå kjensgjerninger ved høring hvis partene ikke er enige i TLs framstilling.</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Appellutvalget skal passe på at ingen tjener på eget lovbrudd.</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urneringsleder skal</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ære ordstyrer når partene forklarer seg.</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astslå kjensgjerninger.</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oreta bridgemessig skjøn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traffe forseelser etter bridgelovene.</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isse 4 oppgavene overtar appellutvalget når appellen blir fremmet.</a:t>
            </a:r>
            <a:endParaRPr b="0" lang="en-US" sz="3200" spc="-1" strike="noStrike">
              <a:solidFill>
                <a:srgbClr val="99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Krav til medlemmene i et appellutvalg</a:t>
            </a:r>
            <a:endParaRPr b="0" lang="en-US" sz="40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tvalget skal foreta bridgemessige vurderinger og i utvalget bør det derfor være en flere spillere som er minst like gode som de involverte.</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Medlemmene bør prøve å sett seg inn i mindre flinke spillere sin tankegang. En spiller har krav på å bli bedømt av sine likemenn, så langt råd er.</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ilstreb geografisk spredning, hvis mulig.</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Habilitet</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Bruk sunn fornuft. Det er ofte tilstrekkelig. Det forventes at inhabile medlemmer selv trekker seg hvis de vet at de er inhabile.</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 som er med i appellutvalget, bør ikke pleie vennskapelig omgang med en av partene umiddelbart før appellbehandling, eller like etter.</a:t>
            </a:r>
            <a:endParaRPr b="0" lang="en-US" sz="3200" spc="-1" strike="noStrike">
              <a:solidFill>
                <a:srgbClr val="990000"/>
              </a:solidFill>
              <a:latin typeface="Times New Roman"/>
            </a:endParaRPr>
          </a:p>
          <a:p>
            <a:pPr marL="329040" indent="-3290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is en av medlemmene betvile habilitet, bør medlemmet byttes ut.</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urneringsleders rolle</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an redegjør for hvilke kjensgjerninger som er fastlagt.</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vilke spørsmål som det er tatt stilling til.</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Hvilke lover og regler som dekker saken.</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Og de forskjellige muligheter han har overveiet før avgjørelsen.</a:t>
            </a:r>
            <a:endParaRPr b="0" lang="en-US" sz="3200" spc="-1" strike="noStrike">
              <a:solidFill>
                <a:srgbClr val="990000"/>
              </a:solidFill>
              <a:latin typeface="Times New Roman"/>
            </a:endParaRPr>
          </a:p>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Disse punktene skal være nedskrevet sammen med partenes forklaring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21:00:15Z</dcterms:created>
  <dc:creator> Kyrre Tangen</dc:creator>
  <dc:description/>
  <dc:language>en-US</dc:language>
  <cp:lastModifiedBy>Per Nordland</cp:lastModifiedBy>
  <dcterms:modified xsi:type="dcterms:W3CDTF">2002-05-03T14:20:33Z</dcterms:modified>
  <cp:revision>3</cp:revision>
  <dc:subject/>
  <dc:title>Appellutvalg og turneringsleder</dc:title>
</cp:coreProperties>
</file>